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26312-36FD-420E-B9D3-4CFAAF8ABB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9320" y="1417320"/>
            <a:ext cx="872820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7964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9DA87-AC7B-4EE2-A53C-B22C9F4117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9320" y="1417320"/>
            <a:ext cx="872820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7964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7E9964-D2B9-45E8-9003-040E3D0CC0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9320" y="1417320"/>
            <a:ext cx="872820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7964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A2596-11B8-4660-91B2-BD2425FCA5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9320" y="1417320"/>
            <a:ext cx="872820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7964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8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39320" y="1417320"/>
            <a:ext cx="872820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7964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9320" y="1417320"/>
            <a:ext cx="872820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7964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9320" y="1417320"/>
            <a:ext cx="872820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7964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39320" y="1417320"/>
            <a:ext cx="8728200" cy="93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9320" y="1417320"/>
            <a:ext cx="872820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7964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9320" y="1417320"/>
            <a:ext cx="872820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7964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8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99E793-17EE-409B-9A4F-B59FF508E5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9320" y="1417320"/>
            <a:ext cx="872820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7964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9320" y="1417320"/>
            <a:ext cx="872820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7964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9320" y="1417320"/>
            <a:ext cx="872820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7964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9320" y="1417320"/>
            <a:ext cx="872820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7964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9320" y="1417320"/>
            <a:ext cx="872820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7964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9320" y="1417320"/>
            <a:ext cx="872820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7964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4FEFB7-E6D8-48A7-ADE8-D5483580EE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9320" y="1417320"/>
            <a:ext cx="872820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7964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495E5-45A0-4AF6-AC72-DD4D0E8F9D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9320" y="1417320"/>
            <a:ext cx="872820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7964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5B95D-BD8B-4BE7-AA0C-48FF68263E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9320" y="1417320"/>
            <a:ext cx="8728200" cy="931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1E0F3-BF04-4273-AD47-5180D84793F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9320" y="1417320"/>
            <a:ext cx="872820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7964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ECAFD-9328-4BC4-BB88-E8F8839809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9320" y="1417320"/>
            <a:ext cx="872820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7964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AE9D12-5487-425B-84C6-542A728794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9320" y="1417320"/>
            <a:ext cx="872820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7964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1116E-3156-4AE4-A067-90932BE555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slideLayout" Target="../slideLayouts/slideLayout13.xml"/><Relationship Id="rId15" Type="http://schemas.openxmlformats.org/officeDocument/2006/relationships/slideLayout" Target="../slideLayouts/slideLayout14.xml"/><Relationship Id="rId16" Type="http://schemas.openxmlformats.org/officeDocument/2006/relationships/slideLayout" Target="../slideLayouts/slideLayout15.xml"/><Relationship Id="rId17" Type="http://schemas.openxmlformats.org/officeDocument/2006/relationships/slideLayout" Target="../slideLayouts/slideLayout16.xml"/><Relationship Id="rId18" Type="http://schemas.openxmlformats.org/officeDocument/2006/relationships/slideLayout" Target="../slideLayouts/slideLayout17.xml"/><Relationship Id="rId19" Type="http://schemas.openxmlformats.org/officeDocument/2006/relationships/slideLayout" Target="../slideLayouts/slideLayout18.xml"/><Relationship Id="rId20" Type="http://schemas.openxmlformats.org/officeDocument/2006/relationships/slideLayout" Target="../slideLayouts/slideLayout19.xml"/><Relationship Id="rId21" Type="http://schemas.openxmlformats.org/officeDocument/2006/relationships/slideLayout" Target="../slideLayouts/slideLayout20.xml"/><Relationship Id="rId22" Type="http://schemas.openxmlformats.org/officeDocument/2006/relationships/slideLayout" Target="../slideLayouts/slideLayout21.xml"/><Relationship Id="rId23" Type="http://schemas.openxmlformats.org/officeDocument/2006/relationships/slideLayout" Target="../slideLayouts/slideLayout22.xml"/><Relationship Id="rId24" Type="http://schemas.openxmlformats.org/officeDocument/2006/relationships/slideLayout" Target="../slideLayouts/slideLayout23.xml"/><Relationship Id="rId2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contrast="16000"/>
            <a:alphaModFix amt="27000"/>
          </a:blip>
          <a:stretch/>
        </p:blipFill>
        <p:spPr>
          <a:xfrm>
            <a:off x="1371600" y="6261120"/>
            <a:ext cx="7788240" cy="620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7980480" y="1508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IBMLogo"/>
                <a:ea typeface="New MingLiu"/>
              </a:rPr>
              <a:t>IB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250920" y="793800"/>
            <a:ext cx="856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5927760" y="6519960"/>
            <a:ext cx="305424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  <a:ea typeface="SimSun"/>
              </a:rPr>
              <a:t>© 2010 IBM Corporatio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179280" y="6237360"/>
            <a:ext cx="878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8388360" y="6796080"/>
            <a:ext cx="755640" cy="69840"/>
          </a:xfrm>
          <a:prstGeom prst="rect">
            <a:avLst/>
          </a:prstGeom>
          <a:solidFill>
            <a:srgbClr val="0000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sldNum" idx="1"/>
          </p:nvPr>
        </p:nvSpPr>
        <p:spPr>
          <a:xfrm>
            <a:off x="154080" y="6502320"/>
            <a:ext cx="100656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7889fb"/>
                </a:solidFill>
                <a:latin typeface="Times New Roman"/>
                <a:ea typeface="New MingLiu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BE6FC-F9B9-4882-8366-E8D4B08CC6A7}" type="slidenum">
              <a:rPr b="1" lang="en-US" sz="1000" spc="-1" strike="noStrike">
                <a:solidFill>
                  <a:srgbClr val="7889fb"/>
                </a:solidFill>
                <a:latin typeface="Times New Roman"/>
                <a:ea typeface="New MingLiu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227160" y="3565440"/>
            <a:ext cx="8629560" cy="2940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74680" y="1050840"/>
            <a:ext cx="8594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89880" y="6537240"/>
            <a:ext cx="13716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© 2010 IBM Corporatio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8280360" y="684360"/>
            <a:ext cx="588960" cy="2365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9320" y="1417320"/>
            <a:ext cx="872820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7964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9"/>
          <p:cNvGrpSpPr/>
          <p:nvPr/>
        </p:nvGrpSpPr>
        <p:grpSpPr>
          <a:xfrm>
            <a:off x="270000" y="3665520"/>
            <a:ext cx="8606880" cy="2658240"/>
            <a:chOff x="270000" y="3665520"/>
            <a:chExt cx="8606880" cy="2658240"/>
          </a:xfrm>
        </p:grpSpPr>
        <p:pic>
          <p:nvPicPr>
            <p:cNvPr id="51" name="Picture 10" descr=""/>
            <p:cNvPicPr/>
            <p:nvPr/>
          </p:nvPicPr>
          <p:blipFill>
            <a:blip r:embed="rId4"/>
            <a:stretch/>
          </p:blipFill>
          <p:spPr>
            <a:xfrm>
              <a:off x="274320" y="3665520"/>
              <a:ext cx="1353600" cy="54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11" descr=""/>
            <p:cNvPicPr/>
            <p:nvPr/>
          </p:nvPicPr>
          <p:blipFill>
            <a:blip r:embed="rId5"/>
            <a:stretch/>
          </p:blipFill>
          <p:spPr>
            <a:xfrm>
              <a:off x="270000" y="4714920"/>
              <a:ext cx="1353600" cy="55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2" descr=""/>
            <p:cNvPicPr/>
            <p:nvPr/>
          </p:nvPicPr>
          <p:blipFill>
            <a:blip r:embed="rId6"/>
            <a:stretch/>
          </p:blipFill>
          <p:spPr>
            <a:xfrm>
              <a:off x="274320" y="5760720"/>
              <a:ext cx="437760" cy="56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" name="Picture 13" descr=""/>
            <p:cNvPicPr/>
            <p:nvPr/>
          </p:nvPicPr>
          <p:blipFill>
            <a:blip r:embed="rId7"/>
            <a:stretch/>
          </p:blipFill>
          <p:spPr>
            <a:xfrm>
              <a:off x="2083680" y="3665520"/>
              <a:ext cx="4524840" cy="54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14" descr=""/>
            <p:cNvPicPr/>
            <p:nvPr/>
          </p:nvPicPr>
          <p:blipFill>
            <a:blip r:embed="rId8"/>
            <a:stretch/>
          </p:blipFill>
          <p:spPr>
            <a:xfrm>
              <a:off x="2083680" y="4714920"/>
              <a:ext cx="5028120" cy="56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15" descr=""/>
            <p:cNvPicPr/>
            <p:nvPr/>
          </p:nvPicPr>
          <p:blipFill>
            <a:blip r:embed="rId9"/>
            <a:stretch/>
          </p:blipFill>
          <p:spPr>
            <a:xfrm>
              <a:off x="2988720" y="5760720"/>
              <a:ext cx="1353600" cy="56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16" descr=""/>
            <p:cNvPicPr/>
            <p:nvPr/>
          </p:nvPicPr>
          <p:blipFill>
            <a:blip r:embed="rId10"/>
            <a:stretch/>
          </p:blipFill>
          <p:spPr>
            <a:xfrm>
              <a:off x="5700960" y="5760720"/>
              <a:ext cx="1453680" cy="56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7" descr=""/>
            <p:cNvPicPr/>
            <p:nvPr/>
          </p:nvPicPr>
          <p:blipFill>
            <a:blip r:embed="rId11"/>
            <a:stretch/>
          </p:blipFill>
          <p:spPr>
            <a:xfrm>
              <a:off x="7511760" y="3665520"/>
              <a:ext cx="1363320" cy="54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18" descr=""/>
            <p:cNvPicPr/>
            <p:nvPr/>
          </p:nvPicPr>
          <p:blipFill>
            <a:blip r:embed="rId12"/>
            <a:stretch/>
          </p:blipFill>
          <p:spPr>
            <a:xfrm>
              <a:off x="7511760" y="4714920"/>
              <a:ext cx="1365120" cy="56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19" descr=""/>
            <p:cNvPicPr/>
            <p:nvPr/>
          </p:nvPicPr>
          <p:blipFill>
            <a:blip r:embed="rId13"/>
            <a:stretch/>
          </p:blipFill>
          <p:spPr>
            <a:xfrm>
              <a:off x="8443800" y="5760720"/>
              <a:ext cx="429840" cy="56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" name=""/>
          <p:cNvSpPr/>
          <p:nvPr/>
        </p:nvSpPr>
        <p:spPr>
          <a:xfrm>
            <a:off x="282600" y="766800"/>
            <a:ext cx="484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grated Service Management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Design and Delive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324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22392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2239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2239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4"/>
    <p:sldLayoutId id="2147483663" r:id="rId15"/>
    <p:sldLayoutId id="2147483664" r:id="rId16"/>
    <p:sldLayoutId id="2147483665" r:id="rId17"/>
    <p:sldLayoutId id="2147483666" r:id="rId18"/>
    <p:sldLayoutId id="2147483667" r:id="rId19"/>
    <p:sldLayoutId id="2147483668" r:id="rId20"/>
    <p:sldLayoutId id="2147483669" r:id="rId21"/>
    <p:sldLayoutId id="2147483670" r:id="rId22"/>
    <p:sldLayoutId id="2147483671" r:id="rId23"/>
    <p:sldLayoutId id="2147483672" r:id="rId24"/>
    <p:sldLayoutId id="2147483673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4920" y="2796840"/>
            <a:ext cx="861048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228600">
              <a:lnSpc>
                <a:spcPct val="9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43b165"/>
                </a:solidFill>
                <a:latin typeface="Arial"/>
              </a:rPr>
              <a:t>Bala Rajaraman, </a:t>
            </a:r>
            <a:r>
              <a:rPr b="0" lang="en-GB" sz="1800" spc="-1" strike="noStrike">
                <a:solidFill>
                  <a:srgbClr val="43b165"/>
                </a:solidFill>
                <a:latin typeface="Arial"/>
              </a:rPr>
              <a:t>Distinguished Engineer, Tivoli, IBM Softwar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9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>
                <a:solidFill>
                  <a:srgbClr val="43b165"/>
                </a:solidFill>
                <a:latin typeface="Arial"/>
              </a:rPr>
              <a:t>Don O'Toole</a:t>
            </a:r>
            <a:r>
              <a:rPr b="0" lang="en-US" sz="1800" spc="-1" strike="noStrike">
                <a:solidFill>
                  <a:srgbClr val="43b165"/>
                </a:solidFill>
                <a:latin typeface="Arial"/>
              </a:rPr>
              <a:t>, Director of Strategy, Tivoli Softwar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4440" y="1549440"/>
            <a:ext cx="8655120" cy="789480"/>
          </a:xfrm>
          <a:prstGeom prst="roundRect">
            <a:avLst>
              <a:gd name="adj" fmla="val 3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nterview on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Integrated Service Management for Design &amp; Delive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3073320"/>
            <a:ext cx="317520" cy="378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826480" y="2743200"/>
            <a:ext cx="317520" cy="378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3:03:28Z</dcterms:created>
  <dc:creator>pcoyne</dc:creator>
  <dc:description/>
  <dc:language>en-US</dc:language>
  <cp:lastModifiedBy>tquandt</cp:lastModifiedBy>
  <dcterms:modified xsi:type="dcterms:W3CDTF">2010-10-27T16:05:30Z</dcterms:modified>
  <cp:revision>185</cp:revision>
  <dc:subject/>
  <dc:title>Integrated Service Management Enabling product and service innovation </dc:title>
</cp:coreProperties>
</file>