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077075"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D716B8-31ED-431D-8B40-C324E6B6B2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AF307B-E8B0-46F0-9756-2A49A8C32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E9AF01-818B-427E-8470-33EA2ADCF2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DCBDE4-16D7-4717-B9CB-E9473A9439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63EF96-C8DA-490E-8DC1-22B410AC9C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41E6E6-9052-4599-BAE3-4FFE5369E7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40371A-44F3-4F9D-8BF2-4127AADAC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DC798-9C64-4DAE-892B-FB3D0CD35F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21EB6D-6687-4E7B-8CB2-298514621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886ABE-9C9E-4802-81E6-67B2061B27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762824-A4DA-49F2-9940-605E204AEC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F7D31-4EF4-4BFE-889F-74FED1F7D6D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Arial"/>
                <a:ea typeface="Arial"/>
              </a:defRPr>
            </a:lvl1pPr>
          </a:lstStyle>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Arial"/>
                <a:ea typeface="Arial"/>
              </a:defRPr>
            </a:lvl1pPr>
          </a:lstStyle>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400" spc="-1" strike="noStrike">
                <a:solidFill>
                  <a:srgbClr val="000000"/>
                </a:solidFill>
                <a:latin typeface="Arial"/>
                <a:ea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en-US" sz="1400" spc="-1" strike="noStrike">
                <a:solidFill>
                  <a:srgbClr val="000000"/>
                </a:solidFill>
                <a:latin typeface="Arial"/>
                <a:ea typeface="Arial"/>
              </a:defRPr>
            </a:lvl1pPr>
          </a:lstStyle>
          <a:p>
            <a:pPr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EA42763-2D57-405C-8DBD-D4E42B63FC2C}"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rcRect l="0" t="0" r="0" b="9883"/>
          <a:stretch/>
        </p:blipFill>
        <p:spPr>
          <a:xfrm>
            <a:off x="182520" y="1370160"/>
            <a:ext cx="6701040" cy="3585960"/>
          </a:xfrm>
          <a:prstGeom prst="rect">
            <a:avLst/>
          </a:prstGeom>
          <a:ln w="0">
            <a:noFill/>
          </a:ln>
        </p:spPr>
      </p:pic>
      <p:sp>
        <p:nvSpPr>
          <p:cNvPr id="42" name=""/>
          <p:cNvSpPr/>
          <p:nvPr/>
        </p:nvSpPr>
        <p:spPr>
          <a:xfrm>
            <a:off x="1905120" y="3925800"/>
            <a:ext cx="6476760" cy="250236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666666"/>
                </a:solidFill>
                <a:latin typeface="Arial"/>
                <a:ea typeface="Arial"/>
              </a:rPr>
              <a:t>Glenn serves Infrastructure &amp; Operations professionals.  He is widely regarded as a top thought leader in IT service management, IT operations, and the broader social implications of technology evolution.  Glenn's specialties are in data center automation and operational excellence.  </a:t>
            </a: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666666"/>
                </a:solidFill>
                <a:latin typeface="Arial"/>
                <a:ea typeface="Arial"/>
              </a:rPr>
              <a:t>He is the co-author of The CMDB Imperative, a book on CMDB best practices.</a:t>
            </a: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666666"/>
                </a:solidFill>
                <a:latin typeface="Arial"/>
                <a:ea typeface="Arial"/>
              </a:rPr>
              <a:t>Prior to joining Forrester, Glenn was a major force in transforming EMC's resource management software business as a marketing lead and strategic contributor.  He is also a former IT operations analyst at META Group.  Most of Glenn's career encompassed 21 years in various companies within the Bell System where he held increasingly influential roles in technology development, IT operations, and enterprise architecture.</a:t>
            </a: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200" spc="-1" strike="noStrike">
              <a:solidFill>
                <a:srgbClr val="000000"/>
              </a:solidFill>
              <a:latin typeface="Arial"/>
            </a:endParaRPr>
          </a:p>
          <a:p>
            <a:pPr>
              <a:lnSpc>
                <a:spcPct val="92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200" spc="-1" strike="noStrike">
                <a:solidFill>
                  <a:srgbClr val="666666"/>
                </a:solidFill>
                <a:latin typeface="Arial"/>
                <a:ea typeface="Arial"/>
              </a:rPr>
              <a:t>For more information on Glenn and his research visit www.forrester.com/rb/analyst/glenn_donnell</a:t>
            </a:r>
            <a:endParaRPr b="0" lang="en-US" sz="1200" spc="-1" strike="noStrike">
              <a:solidFill>
                <a:srgbClr val="000000"/>
              </a:solidFill>
              <a:latin typeface="Arial"/>
            </a:endParaRPr>
          </a:p>
        </p:txBody>
      </p:sp>
      <p:sp>
        <p:nvSpPr>
          <p:cNvPr id="43" name=""/>
          <p:cNvSpPr/>
          <p:nvPr/>
        </p:nvSpPr>
        <p:spPr>
          <a:xfrm>
            <a:off x="304920" y="533520"/>
            <a:ext cx="8381880" cy="7671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339933"/>
                </a:solidFill>
                <a:latin typeface="Arial"/>
              </a:rPr>
              <a:t>Interview with Glenn O’Donnell, Forrester Senior Analyst</a:t>
            </a:r>
            <a:endParaRPr b="0" lang="en-US" sz="2000" spc="-1" strike="noStrike">
              <a:solidFill>
                <a:srgbClr val="000000"/>
              </a:solidFill>
              <a:latin typeface="Arial"/>
            </a:endParaRPr>
          </a:p>
          <a:p>
            <a:pPr>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Arial"/>
              </a:rPr>
              <a:t>by Don O'Toole, Director of Strategy, Tivoli Software</a:t>
            </a:r>
            <a:endParaRPr b="0" lang="en-US" sz="20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quandt</cp:lastModifiedBy>
  <dcterms:modified xsi:type="dcterms:W3CDTF">2010-10-28T21:34:14Z</dcterms:modified>
  <cp:revision>2</cp:revision>
  <dc:subject/>
  <dc:title>Slide 1</dc:title>
</cp:coreProperties>
</file>